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D2D-C00D-4225-B70B-AEFB4437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41640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663-553C-437F-A80A-5A3623C7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60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D4C-D766-45B9-8DB0-76738264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40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372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40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372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C76-F30D-402E-BB13-E9E1123D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CC63-63C7-45D1-9D6C-B6F6C246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F7EF-448D-4338-AE6D-BF9E8CAA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49AB-6FC9-4D5A-B9E7-8C94A688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F821-004C-4373-B1CC-C2E67EF7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F211-DB87-4644-B5CA-743FA637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08516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9944-BF34-4FD6-B17F-FEF970E8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9D16-99EC-4121-8C34-9C47D0E3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41F-4FE8-44AB-8D7D-9AECDE10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260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6E1C-50C4-4601-8C08-72CDD23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D9B1-E1D7-4C71-9EA2-E44F0F52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41640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9C16-9FAC-43FE-86E3-4169B8D2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260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313A-9B7B-4E3C-8C16-10320FB8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40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3720" y="281916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40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3720" y="3416400"/>
            <a:ext cx="1692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4720-486B-4246-87FF-A96A9A5E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575-067E-422D-B9AB-ABED8B90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43D-20D2-49CE-8220-1C74F5B4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217-3551-4FF7-BBA6-6610CA61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08516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58D-AC9F-41D7-A626-63D845AE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CA4-3AFE-4D5D-B50F-4B3EDF90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600" y="341640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BC6-CAB9-4F25-82D9-67452396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600" y="2819160"/>
            <a:ext cx="2565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416400"/>
            <a:ext cx="5256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7D0-4092-4894-B54F-4E5D8053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AD05-BEE8-4E02-AD6F-26824510EA4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84AD-5319-42C7-A114-75CAE7C3705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7085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работать сервер доступа к библиотечным информационным ресурсам по протоколу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.50 и систему обслуживания по принципу «Одно окно»</a:t>
            </a: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5761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Times New Roman"/>
              </a:rPr>
              <a:t>СЕРВЕР ДОСТУПА К БИБЛИОТЕЧНЫМ ИНФОРМАЦИОННЫМ РЕСУРСАМ ПО ПРОТОКОЛУ </a:t>
            </a:r>
            <a:r>
              <a:rPr b="1" i="1" lang="en-US" sz="3000" spc="-1" strike="noStrike">
                <a:solidFill>
                  <a:srgbClr val="cc3300"/>
                </a:solidFill>
                <a:latin typeface="Times New Roman"/>
              </a:rPr>
              <a:t>Z39.50</a:t>
            </a:r>
            <a:r>
              <a:rPr b="1" i="1" lang="ru-RU" sz="3000" spc="-1" strike="noStrike">
                <a:solidFill>
                  <a:srgbClr val="cc3300"/>
                </a:solidFill>
                <a:latin typeface="Times New Roman"/>
              </a:rPr>
              <a:t> И СИСТЕМА ОБСЛУЖИВАНИЯ ПО ПРИНЦИПУ «ОДНО ОКНО»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2920" y="1052280"/>
            <a:ext cx="561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Государственный орган-заказч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льзователь) системы: Национальная академия наук Беларуси (НАН Беларуси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Организация разработчик и изготов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ы: Государственное научное учреждение «Объединенный институт проблем информатики Национальной академии наук Беларуси» (ОИПИ НАН Беларуси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Организация-пользователь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ы: ГУ</a:t>
            </a:r>
            <a:r>
              <a:rPr b="0" lang="be-BY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Центральная научная библиотека НАН Беларуси», НАН Беларуси и ее подразделения, а также физические и юридические лица – пользователи сети Интернет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Условное обозна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Т-39.50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Плановые сроки выполнения работ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– 16.02.2009 г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кончание  – 20.12.2010 г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Э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тап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ы работ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 2009 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технический проект, программное обеспечение и создать опытный образец сервера доступа к библиотечным информационным ресурсам по протоколу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.50 и системы обслуживания по принципу «Одно окно»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Анализ предметной области и формирование требований к системе. Разработка технического задания на систему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функциональной архитектуры и информационного обеспечения системы, пояснительной записки технического проекта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аботка программного обеспечения и с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ание опытного образца  системы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 2010 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работать программное обеспечение, разработать эксплуатационную документацию и ввести в эксплуатацию сервер доступа к библиотечным информационным ресурсам по протоколу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.50 и систему обслуживания по принципу «Одно окно»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549360"/>
            <a:ext cx="708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640" y="765000"/>
            <a:ext cx="54021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 процессе выполнения задания разработаны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е задание на создание  системы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снительная  записка к техническому  проекту на разработку системы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е обеспечение сервера доступа к библиотечным информационным ресурсам по протоко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.50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е обеспечение системы обслуживания «Одно окно»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онная документация (Общее описание, Руководство оператора, Руководство пользователя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549360"/>
            <a:ext cx="708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5640" y="1052640"/>
            <a:ext cx="554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c3300"/>
                </a:solidFill>
                <a:latin typeface="Times New Roman"/>
              </a:rPr>
              <a:t>Актуальность разработки сервера протокола </a:t>
            </a:r>
            <a:r>
              <a:rPr b="1" i="1" lang="en-US" sz="1700" spc="-1" strike="noStrike">
                <a:solidFill>
                  <a:srgbClr val="cc3300"/>
                </a:solidFill>
                <a:latin typeface="Times New Roman"/>
              </a:rPr>
              <a:t>Z 39.50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дарт протоко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3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 определяет для компьютеров-клиентов единую процедуру запроса информационных ресурсов – серверов, поддерживающих библиотечные каталоги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«одного окна» в библиотечной системе следует рассматривать как механизм взаимодействия компьютеров, позволяющий унифицировать доступ к различным базам данных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ь, использующий одно приложение на компьютере-клиенте, может производить поиск информации в удаленных распределенных базах данных, имеющих самую разную структуру и форматы представления информации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Times New Roman"/>
              </a:rPr>
              <a:t>Необходимость реализации данного протокола обусловливается рядом причин:</a:t>
            </a:r>
            <a:r>
              <a:rPr b="0" i="1" lang="ru-RU" sz="16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йствующие информационно-поисковые системы и электронные каталоги поддерживают различные формы представления выходной информации, методы хранения данных, способы доступа к базам данных;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базы данных систем имеют различную структуру хранения информации. З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аписи баз данных (документы) могут иметь раз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</a:rPr>
              <a:t>лич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ные наборы полей, при этом поля записей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</a:rPr>
              <a:t>,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</a:rPr>
              <a:t>как правило, 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по-разному называются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</a:rPr>
              <a:t>;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в разных системах используются разные поисковые языки, </a:t>
            </a:r>
            <a:r>
              <a:rPr b="1" lang="ru-RU" sz="13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то есть правила составления запросов на поиск информации в базе данных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различается способ представления выдаваемой информации (списки, каталожные карточки и др.);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каждая система имеет свой собственный пользовательский интерфейс.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86920" y="1052640"/>
            <a:ext cx="5472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Times New Roman"/>
              </a:rPr>
              <a:t>Возможности сервера и протокола </a:t>
            </a: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Z 39.5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Times New Roman"/>
              </a:rPr>
              <a:t>Протокол</a:t>
            </a:r>
            <a:r>
              <a:rPr b="1" i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Z39.50 </a:t>
            </a:r>
            <a:r>
              <a:rPr b="1" i="1" lang="ru-RU" sz="1800" spc="-1" strike="noStrike">
                <a:solidFill>
                  <a:srgbClr val="cc3300"/>
                </a:solidFill>
                <a:latin typeface="Times New Roman"/>
              </a:rPr>
              <a:t>поддерживает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базами данн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независим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конкретных сист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 помощью единого языка запрос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гламен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ру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укту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ылаемых данных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buClr>
                <a:srgbClr val="08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абстрактн</a:t>
            </a:r>
            <a:r>
              <a:rPr b="1" i="1" lang="ru-RU" sz="1400" spc="-1" strike="noStrike">
                <a:solidFill>
                  <a:srgbClr val="080000"/>
                </a:solidFill>
                <a:latin typeface="Times New Roman"/>
              </a:rPr>
              <a:t>ую</a:t>
            </a:r>
            <a:r>
              <a:rPr b="1" i="1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модел</a:t>
            </a:r>
            <a:r>
              <a:rPr b="1" i="1" lang="ru-RU" sz="1400" spc="-1" strike="noStrike">
                <a:solidFill>
                  <a:srgbClr val="080000"/>
                </a:solidFill>
                <a:latin typeface="Times New Roman"/>
              </a:rPr>
              <a:t>ь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библиографических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данных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с целью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унификац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представления информаци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, а также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принцип стандартизованной выдачи данных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 с целью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унификац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обмена данными;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с распределенными данны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позволяет совершенно прозрачно для пользователя работать с данными, расположенными на разных физических серверах, различных аппаратно-программных платформах и хранящихся в различных внутренних форматах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ую систему запрос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базам данных как через синтакси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языка запрос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и через систему стандартных наборов поисковых атрибут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азначение протокола </a:t>
            </a:r>
            <a:r>
              <a:rPr b="1" lang="en-US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Z</a:t>
            </a:r>
            <a:r>
              <a:rPr b="1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39.50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предоставить компьютеру, работающему в режиме «клиент», возможности поиска и извлечения информаци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единую процедуру запроса из другого компьютера, работающего как информационный сервер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поддерживающ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й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библиотечные каталоги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Протокол Z39.50 определен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стандартом ANSI Z39.50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 и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ISO </a:t>
            </a:r>
            <a:r>
              <a:rPr b="0" lang="en-US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Z</a:t>
            </a:r>
            <a:r>
              <a:rPr b="0" lang="ru-RU" sz="1400" spc="-1" strike="noStrike">
                <a:solidFill>
                  <a:srgbClr val="080000"/>
                </a:solidFill>
                <a:latin typeface="Times New Roman"/>
                <a:ea typeface="Times New Roman"/>
              </a:rPr>
              <a:t>3950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42920" y="980640"/>
            <a:ext cx="561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Цель создания и назначение систем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ю реализации задания являе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к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рвера  протокола Z39.50 и системы информационного обслуживания по принципу «одно окно», совместимых с системой автоматизации библиотечной деятельности в НАН Беларуси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систем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нформационного обслужива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дно окно» предназначена для поиска и извлечения библиографических записей из удаленных электронных каталогов библиотек с использованием международного протокола Z39.5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Сервер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Z39.50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позволяет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еспечить корпоративный обмен информацией на национальном и международном уровне, сократить финансовые затраты и расход трудовых и материальных ресурсов на создание и поддержку электронных каталогов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оставить пользователям  свободный и широкий доступ к информационным ресурсам сети библиотек НАН Беларуси, РНТБ, Сводного электронного каталога библиотек Беларуси на базе Национальной библиотек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42920" y="980640"/>
            <a:ext cx="561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Требования к структуре и функционированию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ер обеспечивает доступ по протоколу Z39.50 v 3 (ISO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50-2003) к библиографической базе данных системы автоматизации библиотечной деятельности в НАН Беларуси и поддерживать следующие функции: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ициализация (установление сеанса связи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ск информации (сервер обрабатывает запросы RPN (type-1 и type-101) с набором библиографических поисковых атрибуто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 произвольной комбинации);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извлечение данных в различных форматах (SUTRS, MARC21, UNIMARC, RUSMARC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мотр индекс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ртировка результатов поиска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держка переговоров при инициализации сеанса о языке и наборе символов в различных кодовых таблицах (DOS, WIN, ISO, MAC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085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ГСНТИ 2009-2010</a:t>
            </a: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ru-RU" sz="1400" spc="-1" strike="noStrike">
                <a:solidFill>
                  <a:srgbClr val="663300"/>
                </a:solidFill>
                <a:latin typeface="Times New Roman"/>
              </a:rPr>
              <a:t>задание 2.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16000" y="771480"/>
          <a:ext cx="5400720" cy="52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771480"/>
                    <a:ext cx="540072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06:57:28Z</dcterms:created>
  <dc:creator>jmm</dc:creator>
  <dc:description/>
  <dc:language>en-US</dc:language>
  <cp:lastModifiedBy>Григянец Р.Б.</cp:lastModifiedBy>
  <dcterms:modified xsi:type="dcterms:W3CDTF">2011-01-27T14:49:29Z</dcterms:modified>
  <cp:revision>31</cp:revision>
  <dc:subject/>
  <dc:title>ГСНТИ 2009-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